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5F4E-19B1-45B9-8E78-D1B0925E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C555-C34C-402A-A971-7EC7A3A5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49C5-0365-43DB-81D1-988A8027B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697F-E3F9-4345-B431-E0880C992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95C4-E859-440A-B53D-EDEC22ED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67E5-E8E8-4C59-9574-72F07636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3502-7A2E-4BE6-B1C0-464CAA6A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B5BD-EEA6-494C-AB81-969B8974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3FAA-2B76-49DF-8C75-288DCC84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C2CA-9A42-4688-ACB7-3AA7C6B6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1DF9-F08C-450E-A60C-4E44E861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2BBE-F409-450A-83A9-11A54966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B921-3F3C-4076-97E8-C101C300C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0280" y="633240"/>
            <a:ext cx="587592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Surrender 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to Jesus, I surrender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to Him I freely give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will ever love and trust Hi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His presence daily l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surrender All, I surrender All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the to thee, my blessed Savio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surrender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85880" y="633240"/>
            <a:ext cx="7899840" cy="55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More Lo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love (more love),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power (more power),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of You in my lif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 will worship You, with all of my hear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 will worship You, with all of my min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 will worship You, with all of my streng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You are my Lord (You are my Lo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es You are my Lord.. (You are my Lo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90280" y="633240"/>
            <a:ext cx="587592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Surrender 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to Jesus, I surrender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w I feel the sacred flam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 the joy of full salvation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lory, glory to His nam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surrender all, I surrender All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the to thee, my blessed Savio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surrender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0280" y="633240"/>
            <a:ext cx="587592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Surrender 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to Jesus, I surrender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to Him I freely give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will ever love and trust Hi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His presence daily l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surrender All, I surrender All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the to thee, my blessed Savio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surrender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57080" y="633240"/>
            <a:ext cx="61412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Have Decid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have decided to follow Jesu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have decided to follow Jesu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have decided to follow Jesu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turning back, no turning bac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81560" y="633240"/>
            <a:ext cx="78998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Have Decid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ld behind me, the cross before 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ld behind me, the cross before 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ld behind me, the cross before 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turning back, no turning bac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14320" y="633240"/>
            <a:ext cx="7832880" cy="49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Have Decid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Spirit in me, Your love surrounds 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Spirit in me, Your love surrounds 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Spirit in me, Your love surrounds 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turning back, no turning bac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57080" y="633240"/>
            <a:ext cx="61412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Have Decid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have decided to follow Jesu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have decided to follow Jesu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have decided to follow Jesu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turning back, no turning bac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62320" y="633240"/>
            <a:ext cx="833112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Awesome In This Pl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 we come into your presence, past the gates of prai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o your sanctuary, ‘till we’re standing face to 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look upon your countenanc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see the fullness of Your gra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 I can only bow down and say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are awesome in this place, mighty Go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are awesome in this place Abba Fath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are worthy of all praise, to you our lives we rais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are awesome in this place, mighty God.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59120" y="633240"/>
            <a:ext cx="55512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Antiphonal Pra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worship you (we worship yo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mighty God (almighty G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You alone (in You al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our delight (is our delig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worship you (we worship yo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h holy God (oh holy G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lift our voice (and lift our vo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ing your praise (to sing your prai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eluia, allel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eluia, allel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1T22:52:38Z</dcterms:created>
  <dc:creator>Todd McDonald</dc:creator>
  <dc:description/>
  <dc:language>en-US</dc:language>
  <cp:lastModifiedBy>Todd McDonald</cp:lastModifiedBy>
  <dcterms:modified xsi:type="dcterms:W3CDTF">2000-09-20T05:51:02Z</dcterms:modified>
  <cp:revision>23</cp:revision>
  <dc:subject/>
  <dc:title>No Slide Title</dc:title>
</cp:coreProperties>
</file>