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94A-24A5-4956-9F60-61FE304A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EF9-115F-48B5-893D-D06D2880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9B7-7656-45E7-ABEF-43760335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E0A-5892-4DAA-B2E3-0781CFD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2F4-FB7B-4FDE-AAD8-E6064A9E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3A1-DA45-46BA-9113-6503DE6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3E4-857B-48C3-BF86-1D870446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C64-DD08-4720-B347-BAE78F33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232-93DB-4357-AE7F-AEDC9B5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C9C-5147-427E-9D23-165A1B2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4D2-AC0F-4D44-87B5-E2374464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87C-D344-4250-A0C4-F095241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D6A-A141-49A7-B2CD-09197D36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880" y="633240"/>
            <a:ext cx="87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5880" y="633240"/>
            <a:ext cx="8425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70480" y="633240"/>
            <a:ext cx="77169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he mountains and se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open up My hear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healer set me fre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daily lift my hands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I could sing of your love fore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44640" y="633240"/>
            <a:ext cx="57722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o At My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at my door is stand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ly drawing 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ance within He is ask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that voice I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ly the tones are f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door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ill heed my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abide with th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07840" y="633240"/>
            <a:ext cx="6048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o At My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ely without He is stand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ely within am I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I am still delay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He not pass m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ly the tones are f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door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ill heed my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abide with th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351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strength when I am wea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treasure that I see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ing You as a precious jew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to give up  I’d be a fo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33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my sin, my cross, my sh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again I bless your n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fall down, You pick me 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am dry, You fill my c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McDonalT</cp:lastModifiedBy>
  <dcterms:modified xsi:type="dcterms:W3CDTF">2000-12-13T21:42:05Z</dcterms:modified>
  <cp:revision>10</cp:revision>
  <dc:subject/>
  <dc:title>No Slide Title</dc:title>
</cp:coreProperties>
</file>