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C2E3-C13D-4FDF-AF5E-A33B50623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1A08-35A5-41CE-8437-05AA252B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83CD-3378-45BE-9C79-84A91AE46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55A8-C06F-4A3B-AFCC-818305728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A692-D144-49BA-A33D-C58DA39E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87D2-2EAF-463A-92E5-4FC1D3D0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1063-91C4-45A7-AFC5-ED5444AB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EF9B-2FEA-4DC7-AE95-EBB4EE3C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0868-7260-4EEE-AEBC-99EE352B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21C5-205C-42EB-9EB5-27B9BEF2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241F-A101-48F0-999A-D15AEC9D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8F1F-AAB6-49D5-972C-AF1073F3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914C-FB06-473D-A5C5-AD1BCA6B6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1920" y="633240"/>
            <a:ext cx="879300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He Has Made Me Gl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enter His gates with thanksgiving in my hear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enter His courts with pra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say this is the day that the Lord has mad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rejoice for He has made me gl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has made me glad, He has made me glad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rejoice for He has made me gl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has made me glad, He has made me gla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rejoice for He has made me gl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4280" y="633240"/>
            <a:ext cx="79272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Surely The Pres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ely the presence, of the Lord is in this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can feel His mighty power, and His gr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can hear the brush of angel’s wing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see glory coming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ely the presence of the Lord is in this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69400" y="633240"/>
            <a:ext cx="7730640" cy="52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We Exalt Th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Thou O Lord art high, Above all the ear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ou art exalted far above all g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exalt thee, we exalt th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exalt thee, Oh L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worth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hol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27760" y="633240"/>
            <a:ext cx="660276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s The De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the deer panteth for the wate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 my soul longeth after th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oh Lord, are my heart’s desi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long to worship Thee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lone are my strength and shiel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You alone may my spirit yi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lone are my heart’s desir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long to worship Th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40480" y="633240"/>
            <a:ext cx="717732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s The De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’re my friend and You are my brothe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 though You are a 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you more than any othe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 much more than any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lone are my strength and shiel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You alone may my spirit yi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lone are my heart’s desir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long to worship Th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27760" y="633240"/>
            <a:ext cx="660276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s The De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You more than gold or silve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y You can satis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lone are the real joy give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the apple of my ey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lone are my strength and shiel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You alone may my spirit yi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lone are my heart’s desir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long to worship Th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53240" y="633240"/>
            <a:ext cx="4950720" cy="58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Open Our E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n our eyes, Lor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want to see Jesu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reach out and touch Hi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say that we love H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n our ears Lor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help us to list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n our eyes Lor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want to see Jes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472840" y="633240"/>
            <a:ext cx="4513320" cy="58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Open Our E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n our eyes, Lor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want to see Jesu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bow down before Hi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love and adore H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n our hearts,  Lor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help us to love Hi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n our eyes Lor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want to see Jes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384640" y="633240"/>
            <a:ext cx="4684320" cy="49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Holy, Holy, Ho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ly, holy, holy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rd God Almight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rly in the mor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ur song shall rise to Th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ly, holy, ho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rciful and might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in three Persons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essed Trin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38440" y="633240"/>
            <a:ext cx="5974920" cy="54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Holy, Holy, Ho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ly, holy, holy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the saints adore The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sting down their golden crow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ound the glassy s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rubim and seraphi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lling down before The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ch were and art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more shall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67880" y="633240"/>
            <a:ext cx="6118200" cy="53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Holy, Holy, Ho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ly, holy, holy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rd God Almight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thy works shall praise Thy na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earth and sky and s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ly, holy, ho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rciful and might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in three Person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essed Trin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22:52:38Z</dcterms:created>
  <dc:creator>Todd McDonald</dc:creator>
  <dc:description/>
  <dc:language>en-US</dc:language>
  <cp:lastModifiedBy>Todd McDonald</cp:lastModifiedBy>
  <dcterms:modified xsi:type="dcterms:W3CDTF">2000-09-20T05:47:09Z</dcterms:modified>
  <cp:revision>23</cp:revision>
  <dc:subject/>
  <dc:title>No Slide Title</dc:title>
</cp:coreProperties>
</file>