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C447-15A9-42A3-89A5-0238154AB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A634-A83B-49D5-82B8-F258DD058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2199-D9D0-472B-AB58-A4E44CBE0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3B9C-DB1C-46F0-8DBF-99F3B70F0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8106-29CD-4FB3-8CEE-630D159EA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96B9-45BF-4B5D-9D81-25D84F291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7DA6-F809-409E-8B8F-1E9888004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F5A4-FA36-4CB5-B7DF-06A86FF73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5640-8D70-4A78-81C2-20518E69A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3F9B-74C3-4BEB-A78B-A0332783B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55C6-79C1-44C2-9A37-DAB89BF33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54BF-A75E-4199-8B33-AA4BF6F07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7B13E-7405-4264-AA17-B2E382EA20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25080" y="735120"/>
            <a:ext cx="7002000" cy="55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Lord Reign In 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ver all the earth You reign on high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very mountain stream, every sunset sk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ut my one request, Lord my only ai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s that You reign in me ag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rd reign in me, reign in Your power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ver all my dreams, in my darkest ho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 are the Lord of all I am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 won’t You reign in me ag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89120" y="735120"/>
            <a:ext cx="78753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Lord Reign In 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ver every thought, over every word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y my life reflect the beauty of my Lo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 mean more to me than any earthly thing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 won’t you reign in me ag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rd reign in me, reign in Your power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ver all my dreams, in my darkest ho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 are the Lord of all I am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 won’t You reign in me ag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751400" y="735120"/>
            <a:ext cx="5950440" cy="56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You're Worthy of My Prai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 will worship (echo)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ith all of my heart. (ech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 will praise You (echo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ith all of my strength. (all my strengt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 will seek You (echo)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ll of my days. (ech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 will follow (echo)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ll of Your ways. (all Your wa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 will give You all my worship;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 will give You all my prais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You alone I long to worship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You alone are worthy of   my prai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586880" y="735120"/>
            <a:ext cx="6278400" cy="56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You're Worthy of My Prai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 will bow down (echo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ail You as King. (ech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 will serve You (echo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ive You ev'rything, (give You ev - 'ryth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 will lift up (echo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y eyes to Your throne, (ech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 will trust You (echo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 will trust You alone. (trust You a – lo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 will give You all my worship;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 will give You all my prais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You alone I long to worship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You alone are worthy of my prai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35240" y="711360"/>
            <a:ext cx="8292960" cy="60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Brea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s is the air I breathe, This is the air I breath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r holy presence, living in 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s is my daily bread, This is my daily bread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r very Word, spoken  to me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d I..........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'm desperate for Yo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d I..........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'm lost without Yo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559520" y="735120"/>
            <a:ext cx="6340680" cy="356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I Sing Prai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 sing praises to Your name,  O Lord,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aises to Your name,  O Lord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r your name is gre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d greatly to be praised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843200" y="633240"/>
            <a:ext cx="5773680" cy="48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O Sacred 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 sacred King,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 holy King,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w can I honour you rightly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nour that’s fit for your nam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 sacred Friend,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 holy Friend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 don't take what you give lightly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riendship instead of disgra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053720" y="633240"/>
            <a:ext cx="7352640" cy="52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O Sacred 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r its the mystery of the universe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r the God of holines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d yet you welcome souls like 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d with the blessing of the Fathers heart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 discipline the ones you lov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re’s kindness in you majes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esus, those who recognize your power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now just how wonderful you ar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at you draw n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1T22:52:38Z</dcterms:created>
  <dc:creator>Todd McDonald</dc:creator>
  <dc:description/>
  <dc:language>en-US</dc:language>
  <cp:lastModifiedBy>Todd McDonald</cp:lastModifiedBy>
  <dcterms:modified xsi:type="dcterms:W3CDTF">2001-10-14T14:48:57Z</dcterms:modified>
  <cp:revision>33</cp:revision>
  <dc:subject/>
  <dc:title>No Slide Title</dc:title>
</cp:coreProperties>
</file>