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536-8C06-4086-98C5-613E0695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896-16DA-4E95-A330-6DFFD65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9F2-FAF5-427D-8128-EA5DB9C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97-CD7B-49C7-A2F5-28C1EFA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AB6-0502-4C55-9D3C-8F8BCC1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F07-4AC9-41A0-BA8B-F9FF5BE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5DB-50A6-415B-B662-8237029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619-4130-4703-A297-673901E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DF0-A8D7-4FF4-AFD3-2F85D25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892-FEA6-44F2-A5E0-C39040D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6CE-668E-4B8D-91FF-DF9267E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EE8-0473-4767-81DF-0AAB7BA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3B2-1011-470A-9BD0-1DDAE43C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83908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2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echo), let the river flow (echo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echo),  let the river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10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n… in piec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umbly bow before you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ttered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weight of s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er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fill your arms around m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104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y…fear i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lted in this mome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mercy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leanse from my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agranc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freedom fill my sens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I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set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31T02:17:53Z</dcterms:modified>
  <cp:revision>43</cp:revision>
  <dc:subject/>
  <dc:title>No Slide Title</dc:title>
</cp:coreProperties>
</file>