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545-8E35-43BC-8C43-0A05E2E0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C6A-DC31-4C15-A8F0-7250B2E8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234-883C-4889-96AF-E8050F52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EEA-1A46-44F2-B750-B2E41DF3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958-DD26-4840-9F0D-75CBC612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147-1963-4F08-89DC-0034474F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B20-2AA2-4E15-B523-A8B9A1B8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E10-CC5C-4E2F-AC4B-7AFEBA82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BC6-61E0-4BB0-B38C-FBAE73AF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22C-839F-48A2-A21A-35976361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B8B-A1F1-4A64-9DD1-7E723D7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B34-7AF0-4ACB-84FC-A1019A3A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9AF2-4031-47A6-8DFC-A938F9C09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9040" y="685800"/>
            <a:ext cx="87991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e, Now is the Time to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give you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before your God… 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tongue will confess You are Go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knee will b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ill the greatest treasure remains for tho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gladly choose You n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45800" y="633240"/>
            <a:ext cx="55634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re Love, More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Love (more love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Power (more power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of You in my lif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Love (more love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Power (more power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of You in my lif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2240" y="633240"/>
            <a:ext cx="88905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re Love, More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I will worship You with all of my hear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I will worship You with all of my min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I will worship you with all of my str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You are my Lord (You are my L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You are my Lord (You are my Lord)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1880" y="633240"/>
            <a:ext cx="87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lost man say I am found in Him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poor man say I am rich in Him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h, 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blind man say I can see agai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dead man say I am born agai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. Let the river f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5880" y="633240"/>
            <a:ext cx="8425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, let the river flow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ly Spirit come, and move in power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d 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25280" y="633240"/>
            <a:ext cx="74059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friend we have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ur sins and griefs to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privilege to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peace we often forfei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needless pain we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because we do not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25280" y="633240"/>
            <a:ext cx="74059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we trials and temptation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re trouble anywhe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hould never be discourag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o the Lor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find a friend so faithfu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all our sorrows sha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knows our every weaknes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o the Lor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46800" y="633240"/>
            <a:ext cx="75628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we weak and heavy lad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mbered with a load of car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ious Savior still our refug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o the Lor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thy friends despise forsake the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he Lord in pray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His arms He’ll take and shield the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u wilt find a solace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25280" y="633240"/>
            <a:ext cx="74059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friend we have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ur sins and griefs to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privilege to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peace we often forfei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needless pain we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because we do not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8760" y="633240"/>
            <a:ext cx="87789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rd You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 are more precious than silv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 are more costly than go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 are more beautiful than diamo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nothing I desire compares with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00200" y="633240"/>
            <a:ext cx="80568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rd You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r love is deeper than the 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r love is wider than 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r love encompasses the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's nothing I want more inside of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6-11T23:05:23Z</dcterms:modified>
  <cp:revision>7</cp:revision>
  <dc:subject/>
  <dc:title>No Slide Title</dc:title>
</cp:coreProperties>
</file>