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F6E-5BEC-4128-A955-2B01EE24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B61-FBC4-43DF-847C-B9F55692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235-6D8F-41B4-829D-12E12AD7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0EC-C3F8-4DA8-BF18-CBFE64D1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A42-60B6-414E-8E9B-770A2415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401-6FAB-4539-9703-D8E4D6D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06E-EA81-457E-864B-3AE0592F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834-D734-4578-B77F-D06D465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DDD-3487-4F2D-A522-77A389EA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515-3384-40A1-B1F5-0097A35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FAB-A642-4266-8D10-3CFDBFB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0B8-B8E5-42EB-A97D-3FCC2D5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59B1-17E7-4E34-A08C-4597F66E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5920" y="685800"/>
            <a:ext cx="7244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ake My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, holiness is what I lo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 is what I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, holiness is what You want from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ake my heart and 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mind trans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will con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Yours, to Yours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aithfulness..., Righteousnes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756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I come to you, lifting up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name of Jesus, by Your grace I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1756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receive your favor, Your unending lo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ecause I’ve earned it, not for what I’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81756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the music fades, All is stripped awa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I simply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nging just bring, something that’s of wort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will bless your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’ll bring you more than a so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a song in itsel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not what you hav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search much deeper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ugh the way things app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’re looking into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33520"/>
            <a:ext cx="817560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coming back to the heart of worship, 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sorry Lord for the thing I’ve mad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81756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ng of endless worth, no one could expr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much you d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ough I’m weak and poor, all I have is you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single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’ll bring you more than a so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a song in itsel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not what you hav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search much deeper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ugh the way things app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’re looking into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17560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coming back to the heart of worship, 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sorry Lord for the thing I’ve mad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31T00:08:52Z</dcterms:modified>
  <cp:revision>18</cp:revision>
  <dc:subject/>
  <dc:title>No Slide Title</dc:title>
</cp:coreProperties>
</file>