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A83-AF11-4E94-A840-31ABE73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190-149A-417A-8AA0-BA137687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B40-9BF8-48AD-83AE-E5E84E5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546-EABA-4779-919D-FC0EAC6A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F39-7BC6-4BB4-B8E9-7B6C021C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733-2DCF-484C-91FC-CF4B47BB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105-0358-46FC-99D5-26BA2400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5B6-C78C-4312-873D-ED0B60F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4BC-2140-46B1-B7F9-DB646941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DB3-E370-47D1-B29F-90EDD08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159-304F-459C-85B3-3798022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FD8-D83C-40B3-9B6F-1C744D6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109-1A4D-475B-8ADF-9B8ED5FA3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756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I come to you, lifting up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name of Jesus, by Your grace I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1756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receive your favor, Your unending lo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ecause I’ve earned it, not for what I’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80880"/>
            <a:ext cx="817560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s the presence of your Kingdom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your glory fills this place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see how much you love 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 look into your 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hing could be bet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nothing I would tra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62960" y="633240"/>
            <a:ext cx="6730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gl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beau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,  our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3360" y="633240"/>
            <a:ext cx="77137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glory, in the face of Jesus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beau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 our Savior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King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Heale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7-19T04:58:53Z</dcterms:modified>
  <cp:revision>12</cp:revision>
  <dc:subject/>
  <dc:title>No Slide Title</dc:title>
</cp:coreProperties>
</file>