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8CC-4077-4287-8B69-6BD5069E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E5B-780D-40D2-BFE9-D3F83059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702-B64B-470E-B861-D8ED35FD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1BB-D3A1-4886-8E44-A6A7527E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654-0C44-4ACD-8CD3-326BC88B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21A-BA19-4996-8A7C-73A53459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70C-9576-425F-B682-D776CA4B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EC3-A88F-4F14-AA1D-53E687C1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861-8BA9-4B94-AC9B-F8B493E0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78D-00E5-427A-9A8F-8C0323AE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3AE-8D66-471D-814E-08AFB18F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716-1979-424A-BBCE-6750B9AB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FD63-51A2-4DD9-8E92-4DD036EDC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88840" y="633240"/>
            <a:ext cx="5877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lost man say I am found in Hi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poor man say I am rich in Hi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, let the river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blind man say I can see aga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dead man say I am born aga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river flow. Let the river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river flow, let the river flow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y Spirit come, and move in pow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let the river flow (echo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river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44760" y="660240"/>
            <a:ext cx="63666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Tahoma"/>
              </a:rPr>
              <a:t>Trust and Obe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e walk with the Lo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Light of His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 glory He shed on th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we do His good w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bides with us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with all who will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 and obey for there's no othe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happy in Jesu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o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44760" y="660240"/>
            <a:ext cx="63666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Tahoma"/>
              </a:rPr>
              <a:t>Trust and Obe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burden we b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sorrow we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our toil He doth richly re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grief nor  a  los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frown nor a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s blest if we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 and obey for there's no othe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happy in Jesu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o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44760" y="660240"/>
            <a:ext cx="63666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Tahoma"/>
              </a:rPr>
              <a:t>Trust and Obe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in fellowship sw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sit at His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we'll walk by His side in th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e says we will d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He sends we will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fear only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 and obey for there's no othe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happy in Jesu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o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633240"/>
            <a:ext cx="87789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pl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tillness you are ther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hour I wait, only for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3240"/>
            <a:ext cx="86104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reaching for the highest goa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 might receive the pr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ing onward, pushing every hindrance asid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my wa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69800" y="633240"/>
            <a:ext cx="4918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ll That Is Within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Lor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ll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y sou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of my streng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know, love, serve,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06520" y="633240"/>
            <a:ext cx="485496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e Exalt Th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we exalt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Oh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worth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ho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8-02T23:02:52Z</dcterms:modified>
  <cp:revision>16</cp:revision>
  <dc:subject/>
  <dc:title>No Slide Title</dc:title>
</cp:coreProperties>
</file>