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ABB-B700-4EB6-8A8F-68CB2384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370-724D-46F4-945D-6695528F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1D5-9D99-41F1-9D9F-F922C417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775-1261-456C-A32C-45970DD3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AA9-DF7B-42E3-83AD-C3A652F2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F5A-231F-4686-A4F3-B285A4FF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63C-ACFC-4DBA-9C73-04DBADED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A28-EC98-44AE-94CE-F06C3235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67A-6E9F-4836-9EF8-2B00E335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A84-F41B-4C08-AB19-AED764B7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6C2-6855-410F-A78E-381141A2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A00-0164-4E39-92DB-EB16E4B4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2AF7-3748-446E-BA57-2243758F9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4200" y="304920"/>
            <a:ext cx="835236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ord I Lift Your Name on Hi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, I lift your name on hig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, I love to sing your pra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’m so glad You’re in my lif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’m so glad You came to save U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me from heaven to earth to show the wa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the earth to the cross, my debt to pa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the cross to the gra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the grave to the sk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, I lift your name on hig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19240" y="609480"/>
            <a:ext cx="534852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Because He L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cause He liv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an face tom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cause He liv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fear is g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cause I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holds the futur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 life is worth the liv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633240"/>
            <a:ext cx="87789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ecret, in the quiet pl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tillness you are there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ecret, in the quiet hour I wait, only for y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I want to know you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,  I want to hear your voi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touch you,  I want to see your f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633240"/>
            <a:ext cx="861048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reaching for the highest goa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I might receive the pr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ing onward, pushing every hindrance asid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f my wa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I want to know you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, I want to hear your voi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touch you, I want to see your f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2280"/>
            <a:ext cx="861048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rms of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ing a simple song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my Savior, to my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m grateful for the things you’ve do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loving Savior, oh precious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heart is glad that you’ve called me your own, there’s no place I’d rather b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n in your arms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your arms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lding me still.. holding me nea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your arms of 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533520"/>
            <a:ext cx="861084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Jesus, Lover of My Sou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, lover of my sou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, I will never let you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ken me  from the miry cl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t my feet upon a rock, now I know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love you, I need yo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ough my world my f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ll never let you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Savior, my closest friend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ill worship you until the very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10-11T03:58:31Z</dcterms:modified>
  <cp:revision>35</cp:revision>
  <dc:subject/>
  <dc:title>No Slide Title</dc:title>
</cp:coreProperties>
</file>