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815-99A4-4E80-B813-AFC17E52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738-C523-4D6E-9FD4-8943F7A1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F80-B6E0-434F-9D2C-584BC405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0A1-FC3B-478F-A287-7A1649A7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934-7236-420E-B239-D04E7943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52F-50A0-4C9A-9FA0-F229C47B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30D-253B-4C25-83F0-483A45C9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F5F-A8A5-41E4-98EE-9C518B45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4A5-B5CB-481E-A0CF-8C84306A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16B-E3AB-4AD3-8F35-43791712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406-FE10-443A-9FB8-47D34D6A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538-0EFE-497D-B85C-E9135825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C5B5-F39B-4E85-94FB-52CAC4E8B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Him I freely giv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ill ever love and trust Hi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His presence daily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62320" y="633240"/>
            <a:ext cx="83311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wesome In This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we come into your presence, past the gates of prai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o your sanctuary, ‘till we’re standing face to 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look upon your countena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see the fullness of Your gr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I can only bow down and say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awesome in this place, mighty Go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awesome in this place Abba Fath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worthy of all praise, to you our lives we ra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awesome in this place, mighty God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9120" y="633240"/>
            <a:ext cx="55512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ntiphonal P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orship you (we worship y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mighty God (almighty G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You alone (in You al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ur delight (is our del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orship you (we worship y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 holy God (oh holy G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ift our voice (and lift our vo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ing your praise (to sing your pra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luia, allel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luia, allel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85880" y="633240"/>
            <a:ext cx="789984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ore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love (more love)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power (more power)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of You in my lif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, with all of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, with all of my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, with all of my str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You are my Lord (You are my L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 You are my Lord.. (You are my L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umbly at His feet I bow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ldly pleasures all forsak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me Jesus, take me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me, Savior, wholly thin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t me feel the Holy Spiri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uly know that Thou art 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rd, I give myself to the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ll me with Thy love and pow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t thy blessing fall on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w I feel the sacred flam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 the joy of full salvation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lory, glory to His na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57080" y="633240"/>
            <a:ext cx="61412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13000" y="633240"/>
            <a:ext cx="663192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 no one join me, still I will follo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 no one join me, still I will foll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 no one join me, still I will foll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1560" y="633240"/>
            <a:ext cx="78998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14320" y="633240"/>
            <a:ext cx="783288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pirit in me, Your love surrounds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pirit in me, Your love surrounds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pirit in me, Your love surrounds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9-20T05:46:45Z</dcterms:modified>
  <cp:revision>22</cp:revision>
  <dc:subject/>
  <dc:title>No Slide Title</dc:title>
</cp:coreProperties>
</file>