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625-62C4-4E85-93A0-48F72E76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91D-601A-4F8D-B169-C141FA93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D3B-FFBA-4F8D-BCAE-5FB703C1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F41-ABEB-469C-BCB4-A0A47BC7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A37-8B73-4E8F-ABE0-427167B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AE9-0874-4F4B-8299-AD2E4BE7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E08-B264-48C8-841B-E8713FC9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EED-0FB9-4516-B432-9362A17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2CD-65C8-4DDE-AD35-541352AF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F12-2F49-4600-A7B3-0DE96D2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8DD-C9BE-4265-8880-9EB014F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EED-C7CA-4B5B-9C8B-1F31B0D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192-1CAA-4DB8-8367-EC915AA16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200" y="304920"/>
            <a:ext cx="8352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We Lift Your Name on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we lift your name on hig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we love to sing your pra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re so glad You’re in our liv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re so glad You came to save U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me from heaven to earth to show the w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earth to the cross, our debt to p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cross to the gra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grave to the sk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we lift your name on hi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73360" y="633240"/>
            <a:ext cx="77137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glory, in the face of Jesus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beau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 our Savior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King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Heale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09480"/>
            <a:ext cx="91440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alt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lt,  the Lord our God…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cho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alt, the Lord our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worship at His feet..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ch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d worship at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REPE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He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 Lord, our God, He is (You Are)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REPE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609480"/>
            <a:ext cx="75438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s so sweet to trust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take Him at His wor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rest upon His prom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know thus saith the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41360" y="633240"/>
            <a:ext cx="67752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how sweet to trust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trust His cleansing bloo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in simple faith to plunge 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th the healing cleansing 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41360" y="633240"/>
            <a:ext cx="67752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 ‘tis sweet to trust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rom sin and self to c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rom Jesus simply t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6440" y="633240"/>
            <a:ext cx="68450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so glad I learned to trust Hi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ious Jesus, Savior, Friend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know that He is with 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be with met to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3240"/>
            <a:ext cx="8610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reaching for the highest go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 might receive the pr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onward, pushing every hindrance as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my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2960" y="633240"/>
            <a:ext cx="6730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gl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beau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,  our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7-06T00:08:44Z</dcterms:modified>
  <cp:revision>20</cp:revision>
  <dc:subject/>
  <dc:title>No Slide Title</dc:title>
</cp:coreProperties>
</file>