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B66-40DE-40A2-BC9C-BF6B4C04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CD5-71ED-406A-88E4-D7D1C1B5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A09-3C81-4D4C-A059-CCCDBF73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229-B622-45B3-B87F-5AA708E7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0D6-6677-42BB-BE64-0D25EE5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F35-B650-4DB2-B4C9-E6D11B57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DDB-AC8F-49C4-994C-6168680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298-C14E-4CEE-9A94-54FB211A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2C5-B48B-4C05-906A-F697E6F5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65C-C9B6-4E02-997B-71E2C8C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9F1-6EBD-4E3C-9830-A3FD6A0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F6F-3FEF-4769-911E-8D57BE8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C89-318A-4A2F-AAB5-3A4BE2754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friend we have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ur sins and griefs to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privilege to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peace we often forfe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needless pain we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because we do not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we trials and temptation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trouble anywhe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never be discourag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find a friend so faithfu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all our sorrows sha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knows our every weaknes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10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n… in piec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humbly bow before you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ttered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weight of s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era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fill your arms around m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1048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y…fear i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lted in this mome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mercy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leanse from my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ragranc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freedom fill my sens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I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for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set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2280"/>
            <a:ext cx="86104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ms of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ing a simple song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y Savior, to my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rateful for the things you’ve d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loving Savior, oh precious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eart is glad that you’ve called me your own, there’s no place I’d rather b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 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ding me still.. holding me n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533520"/>
            <a:ext cx="817560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praises to Your name,  O Lord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to Your name,  O Lo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name is gr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give glory to your nam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30T00:19:19Z</dcterms:modified>
  <cp:revision>40</cp:revision>
  <dc:subject/>
  <dc:title>No Slide Title</dc:title>
</cp:coreProperties>
</file>