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1F9-EA20-4B49-A8DE-996133E1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4A3-1A66-4C01-A8BB-7003BAE3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4C1-76BF-4AC9-AD87-D42BE752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B15-D427-4225-B380-B459973D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578-152E-4C28-9692-F3E6DA3C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A40-93E9-406C-A91E-B7BC038C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643-424A-4A59-8C8F-931AC142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762-DEEE-49CE-84B9-341D6C19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E2A-4CBC-41A0-B92B-CEC75CC4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0BD-7111-4683-9D7A-7A4E48D5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4CC-4871-4F4E-A640-ECBC894B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165-0891-481E-A207-28B8DE3F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2974-D791-4907-BA7D-4D75DCA16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5080" y="735120"/>
            <a:ext cx="7002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ord Reign In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all the earth You reign on high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 mountain stream, every sunset s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my one request, Lord my only a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at You reign in m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reign in me, reign in Your pow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all my dreams, in my darkest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the Lord of all I 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on’t You reign in m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89120" y="735120"/>
            <a:ext cx="7875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ord Reign In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every thought, over every w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my life reflect the beauty of my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ean more to me than any earthly th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on’t you reign in m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reign in me, reign in Your pow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all my dreams, in my darkest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the Lord of all I 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on’t You reign in m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1400" y="735120"/>
            <a:ext cx="59504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You're Worthy of My P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worship (echo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all of my heart. (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praise You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all of my strength. (all my str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seek You (echo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my days. (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follow (echo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Your ways. (all Your w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You all my worship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You all my prai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lone I long to worshi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lone are worthy of   my pra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6880" y="735120"/>
            <a:ext cx="62784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You're Worthy of My P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bow down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il You as King. (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serve You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You ev'rything, (give You ev - 'ry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lift up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 eyes to Your throne, (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trust You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trust You alone. (trust You a – l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You all my worship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You all my prai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lone I long to worshi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lone are worthy of my pra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5240" y="711360"/>
            <a:ext cx="82929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s the air I breathe, This is the air I breath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holy presence, living in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s my daily bread, This is my daily brea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very Word, spoken  to m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........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'm desperate for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........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'm lost without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59520" y="735120"/>
            <a:ext cx="6340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 Sing Pra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sing praises to Your name,  O Lord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ises to Your name,  O Lo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your name is g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greatly to be praise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43200" y="633240"/>
            <a:ext cx="57736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 Sacred 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sacred King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holy King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I honour you rightl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nour that’s fit for your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sacred Friend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holy Frie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don't take what you give lightl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endship instead of disgr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53720" y="633240"/>
            <a:ext cx="735264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 Sacred 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its the mystery of the univers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the God of holines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yet you welcome souls like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with the blessing of the Fathers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iscipline the ones you lov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’s kindness in you maje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those who recognize your pow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just how wonderful you a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you draw 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1-10-14T14:49:25Z</dcterms:modified>
  <cp:revision>33</cp:revision>
  <dc:subject/>
  <dc:title>No Slide Title</dc:title>
</cp:coreProperties>
</file>