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151B-8CDA-4788-80DE-923FC66DE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EAC4-206F-4B2D-8F69-600B1883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57D8-9B94-4686-BC2D-A520F6EF5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987A-3A16-473A-ADC0-CDBCEC7F2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C333-9CCC-4432-9C40-F34BC843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DD5F-A79D-4E90-A4DA-3D7B1866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BE59-DBFC-4B0C-924F-3F43CAD2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A81E-ACA7-4595-A0F6-C5E8EFC3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1F04-EAE0-4989-AD1F-F98DA24F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2751-FD2D-4987-B65B-66C1B153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49C7-566C-4B8F-AA64-DDC6B13A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EE68-64D9-49CF-9B83-A7304624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97DE-CB9D-4F69-847C-BD1D35C82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5000" y="685800"/>
            <a:ext cx="7029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Blessed Be The Name of the L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essed be the name of the Lor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essed be the name of the L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essed be the name of the Lord Most Hi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ame of the Lord is a strong T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ighteous run into it and they are sa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ory to the nam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y is the nam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is the name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68960" y="380880"/>
            <a:ext cx="607248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Take My Life and Let It 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my life and let it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crated Lord to Th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my hands and let them mo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e impulse of Thy l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 the impulse  of    thy   l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my feet and let them be 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ft and beautiful for Th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my voice and let me s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ways only for my 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ways  only  for   my   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68960" y="380880"/>
            <a:ext cx="607248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Take My Life and Let It 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my lips and let them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led with messages for Th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my silver and my gol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 mite would I withh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 mite would I    with   h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my life and let it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crated Lord to Th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my self and I will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 only all for Th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 only all    for    th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4120" y="633240"/>
            <a:ext cx="778536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More Love, More P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Love (more love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Power (more power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of You in my lif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 will worship You with all of my hear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 will worship You with all of my min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 will worship you with all of my streng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You are my Lord (You are my Lo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es, You are my Lord (You are my Lord)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533520"/>
            <a:ext cx="8175600" cy="53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Sing Prai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sing praises to Your name,  O Lord,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s to Your name,  O Lor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your name is gre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greatly to be prai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 give glory to your name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533520"/>
            <a:ext cx="8175600" cy="48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Allelu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elu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elu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elu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elu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22:52:38Z</dcterms:created>
  <dc:creator>Todd McDonald</dc:creator>
  <dc:description/>
  <dc:language>en-US</dc:language>
  <cp:lastModifiedBy>Todd McDonald</cp:lastModifiedBy>
  <dcterms:modified xsi:type="dcterms:W3CDTF">2000-08-16T23:29:05Z</dcterms:modified>
  <cp:revision>16</cp:revision>
  <dc:subject/>
  <dc:title>No Slide Title</dc:title>
</cp:coreProperties>
</file>