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500-3212-46A3-84BF-6719193D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25C-6019-4268-8610-CCB0A268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D29-8159-4BFE-BDB8-9DB4BE9B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E3-EA64-4EFA-AC50-B68B281C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653-0B63-4DFC-B504-0EEAB93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5B9-C431-450F-9940-84DD1E4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C2D-BCB7-42FF-81F5-83B47D68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948-B9A5-451E-910B-4D87E57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D94-75DF-43A3-83BD-ECD10044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A9F-02CF-4526-B778-7A2115C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CB8-4A85-48F5-975E-5E251BBC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5D1-0E19-4893-BB46-26C844F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E65-163D-48E0-B3D2-0C816BC68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609480"/>
            <a:ext cx="8305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Here Is L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the mount of crucifix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tains opened deep &amp; wid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ough the floodgates of God’s mercy flowed a vast and gracious t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ce and love like mighty rive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red incessant from ab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ven’s peace and perfect jus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ssed a guilty world in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920" y="633240"/>
            <a:ext cx="88322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Will Give Th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thanks to the Lord according to His righteous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thanks to the Lord according to His righteous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ing praise to the name of the Lord Most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ing praise to the name of the Lord Most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2600" y="633240"/>
            <a:ext cx="85366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Will Give Th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exalted above all heaven and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exalted above all heaven and ear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 above all other g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 above all other g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10160" y="304920"/>
            <a:ext cx="9542520" cy="63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We Lift Your Name on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, we lift your name on hig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, we love to sing your pra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so glad You’re in our liv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so glad You came to save 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me from heaven to earth to show the w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earth to the cross, our debt to p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, we lift your name on hig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strength when I am wea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treasure that I see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ing You as a precious jew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to give up  I’d be a foo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333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my sin, my cross, my sh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ing again I bless your n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fall down, You pick me 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am dry, You fill my c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5080" y="633240"/>
            <a:ext cx="88066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w Great Thou 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Lord my God, when I in awesome w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all the works thy hands hav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ee the stars, I hear the rolling 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 pow'r throughout the universe displa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,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75400" y="609480"/>
            <a:ext cx="970272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w Great Thou 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Christ shall come with shout of accl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ake me home, what joy shall fill my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I shall bow in humble ad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re proclaim, my God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,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09480"/>
            <a:ext cx="79246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Here Is L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e is love, vast as the ocea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vingkindness as the fl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 prince of life our ranso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d for us his precious bl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his love will not rememb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can cease to sing His prais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an never be forgo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oughout heav’ns eternal day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6-14T12:48:08Z</dcterms:modified>
  <cp:revision>13</cp:revision>
  <dc:subject/>
  <dc:title>No Slide Title</dc:title>
</cp:coreProperties>
</file>