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5F6-3B3C-4F56-A8B8-8CD33DD3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6D7-F6B0-4C27-8339-13CBCF77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E23-FCCD-4802-98CC-D2B7D0A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5BD-A962-4EA8-AD80-C421F358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1E9-5E3C-4159-8E40-320AD0F3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C3A-1A54-47B8-A4E7-72C168A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EB4-C1AF-4887-8EE6-CE1DC8F8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27E-5F50-4EE6-ABD3-E02B966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3EF-76ED-4E59-A3A3-5A54EDF9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9D5-F03F-4D1A-B2EA-B7A1AB1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357-B8BC-49DC-AD1E-9399EA0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8B4-D84D-4D0C-83BE-F81F0E0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1C8-A420-41BB-B454-2B8BAD55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920" y="633240"/>
            <a:ext cx="8793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 Has Made Me 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gates with thanksgiving in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courts with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ay this is the day that the Lord has ma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06520" y="633240"/>
            <a:ext cx="4854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Exalt Th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we exalt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worth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deer panteth for the wa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y soul longeth after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oh Lord, are my heart’s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You more than gold or sil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You can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the real joy gi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apple of my ey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deer panteth for the wa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y soul longeth after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oh Lord, are my heart’s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53240" y="633240"/>
            <a:ext cx="4950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ach out and touch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say that we love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ar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ist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72840" y="633240"/>
            <a:ext cx="45133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ow down before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ve and adore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hearts, 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ove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4640" y="633240"/>
            <a:ext cx="468432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in the mor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song shall rise to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67880" y="633240"/>
            <a:ext cx="61182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y works shall praise Thy 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arth and sky and 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4280" y="633240"/>
            <a:ext cx="79272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urely The Pres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,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feel His mighty power, and His 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hear the brush of angel’s w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glory com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59:46Z</dcterms:modified>
  <cp:revision>25</cp:revision>
  <dc:subject/>
  <dc:title>No Slide Title</dc:title>
</cp:coreProperties>
</file>