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C5D-2BDE-4E22-9073-1120CD82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9EE-8C9E-42DA-B118-AA68F7A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40C-BE0F-449C-8865-195CC02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6D7-323D-4472-A8ED-CDBE17BD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1BB-A48E-4002-90E9-0875A327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A4E-89EA-461F-9EF6-0C65DEE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CF4-0D85-46CA-8453-AF03C8B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28B-B2E8-4263-8A0B-13B02051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3FB-97C2-4329-9F3A-72FA5349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046-9756-4554-BAF4-096AB9D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D6C-6341-4CCB-B7C8-B8F51B9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1D6-2BED-4AA3-ACA5-11AEE54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A47-4FF2-4992-99BE-9D65972CD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7105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Blessed Be The Name of the Lord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is Is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be the name of the Lord 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be the name of the Lord Most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Lord is a strong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ghteous run into it and they are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ry to the na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y is the na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us is the nam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day (2x) That the Lord hath made..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joice (2x) And be glad in it 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this is the day that Lord hath mad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joice and be glad in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day (2x), that the Lord hath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30680" y="633240"/>
            <a:ext cx="73936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 and his train fills the templ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, he is high and lifted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9480"/>
            <a:ext cx="91440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 and his eyes are flaming like fi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, and his hair is white as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9760" y="633240"/>
            <a:ext cx="84409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el came and touched the coal to my lip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guilt is gone and my sin has been for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temple is filled with the glory of Go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whole earth is filled with the glory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41000" y="633240"/>
            <a:ext cx="67734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s to me, "Whom shall we send?"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answer Him, " I will go for you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08T22:48:26Z</dcterms:modified>
  <cp:revision>27</cp:revision>
  <dc:subject/>
  <dc:title>No Slide Title</dc:title>
</cp:coreProperties>
</file>